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131-7AFD-4F5D-B942-E67F780F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D65-9FF9-4B08-87EE-2C04A511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EA8-E4E1-4B93-88AC-5F588FC0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41C-7074-49B0-B296-77A3E93D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AFF-7BF6-4A89-B6ED-819A2EFC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836-D40C-43E0-95F0-9CABD958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5872-3E0D-45C1-A23D-60E01CB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7FD0-0573-4982-9229-50C61AC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F3E4-819B-446E-8A7C-6D9BCAB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7B8-77A3-4C31-8ED0-C0BAE4B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5B1E-74F3-414F-9D1B-D6FD641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653-D09E-4651-80ED-3A450DB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245-033A-46E6-A901-A3192B8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66D8-B1F2-4369-AB25-BB8E9E7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32C-9289-4350-B9C5-6C34270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31C-EF4B-4F84-8BFE-33880C77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B718-A5AA-47C6-872B-FFC8F14A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D35-13E8-4541-A02A-1DC5DCC2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552-4081-4FFD-8D17-9068751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DDF-9540-43A7-BFF9-1C14CB68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AE5-8E85-46F7-BE81-14F45A9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FD0-0A53-4C9E-A778-83C01B9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F02-DBD9-4D2A-8578-4170495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8B2-3C7B-43D5-BD5A-61D2284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B97E-A2A8-4C07-93AF-4A4DC4BDD7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EE3-B952-4BF8-8D0E-1DBC96E3C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361960"/>
            <a:ext cx="9067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ebT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Receiver-Driven, User-Centri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port Protocol for the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86040" y="472428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jarshi Gup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CB EE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TT Calculation at Recei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276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0164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132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1911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45720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51814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752120" y="3200400"/>
            <a:ext cx="121932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59092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666880"/>
            <a:ext cx="12189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19920" y="3276720"/>
            <a:ext cx="121896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648320"/>
            <a:ext cx="121896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5146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2004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9528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5812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73440" y="339264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02040" y="3011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6120" y="28954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 /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5760" y="32767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8720" y="586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8400" y="5867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096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49568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9240" y="41911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80060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2352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52352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5028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3429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5160" y="3200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2960" y="411480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r + 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733920"/>
            <a:ext cx="30456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281952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6324480"/>
            <a:ext cx="384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α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1 - α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n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133720"/>
            <a:ext cx="4190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743200"/>
            <a:ext cx="4190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133720"/>
            <a:ext cx="0" cy="609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2362320"/>
            <a:ext cx="3808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133720"/>
            <a:ext cx="457200" cy="533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2209680"/>
            <a:ext cx="3049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2209680"/>
            <a:ext cx="3049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6800" y="186516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 Objec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0" y="2590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6386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7920" y="3962520"/>
            <a:ext cx="76176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962520"/>
            <a:ext cx="6094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24080" y="3962520"/>
            <a:ext cx="76212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962520"/>
            <a:ext cx="6098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6000" y="559908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,n+3&gt;,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7120" y="56386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+4,n+5&gt;,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2360" y="45720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5160" y="44197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500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25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4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69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5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8160" y="4648320"/>
            <a:ext cx="46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n+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886200"/>
            <a:ext cx="76212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886200"/>
            <a:ext cx="76212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99840" y="364176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81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2560" y="3657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7720" y="38098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9160" y="548640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ow Control at Recei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4495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maximum amount of data in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-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ve Increase/ Multiplicative Dec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increase will be biased by RT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7960" y="1885680"/>
            <a:ext cx="41907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TE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ve Increase/ Multiplicative Dec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control based on window 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= cwnd / s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Control independent of cw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= f (oldr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ansmission (timeout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curs when no packet is received for a long period (w.r.t Current R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imeout 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M.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urren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ol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at -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oleranc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: Cut window, Cu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again for first object in que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transmission (out-of-ord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133720"/>
            <a:ext cx="7086600" cy="533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952880"/>
            <a:ext cx="70866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581280"/>
            <a:ext cx="70866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28600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51055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733920"/>
            <a:ext cx="304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400" y="177804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init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560" y="467352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after queue reorde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800" y="322596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Object Queue (after out-of-order arriv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3280" y="3098880"/>
            <a:ext cx="115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rival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22920" y="4062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22920" y="4214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8200" y="4191120"/>
            <a:ext cx="118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485040" y="4062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5627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57000" y="5599080"/>
            <a:ext cx="198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tted packets 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xpected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34960" y="503712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T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ate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82440" y="6248520"/>
            <a:ext cx="71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Object Queue emulates the queue at the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6576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012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28840" y="1886040"/>
            <a:ext cx="39625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twork si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TP Message Agents implemented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alculations and control at recei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-in TCP ag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58104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19242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2914560"/>
            <a:ext cx="2514600" cy="1752840"/>
          </a:xfrm>
          <a:prstGeom prst="cloudCallout">
            <a:avLst>
              <a:gd name="adj1" fmla="val -55870"/>
              <a:gd name="adj2" fmla="val 81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8478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405756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5810400"/>
            <a:ext cx="533160" cy="533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32194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048280"/>
            <a:ext cx="83844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53368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703000">
            <a:off x="2917440" y="2664000"/>
            <a:ext cx="228600" cy="2253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362480"/>
            <a:ext cx="106668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981080" y="4572000"/>
            <a:ext cx="22860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880" y="28386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371600" y="4514760"/>
            <a:ext cx="8380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286000" y="4590720"/>
            <a:ext cx="533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07648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2362320"/>
            <a:ext cx="763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809880" y="2990880"/>
            <a:ext cx="6098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5200" y="4362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8903000">
            <a:off x="2235240" y="4406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WebTP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 Mbps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Tail Queue (queue limit 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-friend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1W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13280" cy="3260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33400" y="533412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 for One WebTP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WebTP Fl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52578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2578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5562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Efficiency*        *Fairnes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49528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3W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35720" cy="3282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134080" y="49528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0400" y="49528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ness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e WebTP and One TCP Flo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5562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Efficiency*     *Stability*   *Fairnes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4080" y="49528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0400" y="49528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ness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1W1T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53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Web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gued desirability of Receiver-drive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nstrated feasibility of such a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a working solution to the design problem outl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, Stable and Fair flows - work well when WebTP pkts are iso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ble interaction with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m Member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1328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UL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kat Anantha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ven McCan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T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vin Varai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an Wal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2760" y="2286000"/>
            <a:ext cx="401328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ke 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son 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jarshi Gup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tune various design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ward Compatibility iss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performance issues across asymmetric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s relating to server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ve testing of WebTP flow control over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Congestion Management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1440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4419720"/>
            <a:ext cx="12193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4419720"/>
            <a:ext cx="121896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2971800"/>
            <a:ext cx="121896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4191120"/>
            <a:ext cx="914400" cy="99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4114800"/>
            <a:ext cx="152280" cy="11430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276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3276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47242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724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4724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3124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6748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96080" y="4419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609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ptual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1905120"/>
            <a:ext cx="8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36232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243828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236232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2438280"/>
            <a:ext cx="152424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4724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2133720"/>
            <a:ext cx="4191120" cy="838080"/>
          </a:xfrm>
          <a:custGeom>
            <a:avLst/>
            <a:gdLst/>
            <a:ahLst/>
            <a:rect l="l" t="t" r="r" b="b"/>
            <a:pathLst>
              <a:path w="2640" h="632">
                <a:moveTo>
                  <a:pt x="0" y="632"/>
                </a:moveTo>
                <a:cubicBezTo>
                  <a:pt x="36" y="588"/>
                  <a:pt x="72" y="544"/>
                  <a:pt x="144" y="488"/>
                </a:cubicBezTo>
                <a:cubicBezTo>
                  <a:pt x="216" y="432"/>
                  <a:pt x="328" y="352"/>
                  <a:pt x="432" y="296"/>
                </a:cubicBezTo>
                <a:cubicBezTo>
                  <a:pt x="536" y="240"/>
                  <a:pt x="656" y="192"/>
                  <a:pt x="768" y="152"/>
                </a:cubicBezTo>
                <a:cubicBezTo>
                  <a:pt x="880" y="112"/>
                  <a:pt x="1008" y="80"/>
                  <a:pt x="1104" y="56"/>
                </a:cubicBezTo>
                <a:cubicBezTo>
                  <a:pt x="1200" y="32"/>
                  <a:pt x="1272" y="16"/>
                  <a:pt x="1344" y="8"/>
                </a:cubicBezTo>
                <a:cubicBezTo>
                  <a:pt x="1416" y="0"/>
                  <a:pt x="1464" y="0"/>
                  <a:pt x="1536" y="8"/>
                </a:cubicBezTo>
                <a:cubicBezTo>
                  <a:pt x="1608" y="16"/>
                  <a:pt x="1696" y="32"/>
                  <a:pt x="1776" y="56"/>
                </a:cubicBezTo>
                <a:cubicBezTo>
                  <a:pt x="1856" y="80"/>
                  <a:pt x="1944" y="120"/>
                  <a:pt x="2016" y="152"/>
                </a:cubicBezTo>
                <a:cubicBezTo>
                  <a:pt x="2088" y="184"/>
                  <a:pt x="2144" y="208"/>
                  <a:pt x="2208" y="248"/>
                </a:cubicBezTo>
                <a:cubicBezTo>
                  <a:pt x="2272" y="288"/>
                  <a:pt x="2344" y="344"/>
                  <a:pt x="2400" y="392"/>
                </a:cubicBezTo>
                <a:cubicBezTo>
                  <a:pt x="2456" y="440"/>
                  <a:pt x="2504" y="496"/>
                  <a:pt x="2544" y="536"/>
                </a:cubicBezTo>
                <a:cubicBezTo>
                  <a:pt x="2584" y="576"/>
                  <a:pt x="2624" y="616"/>
                  <a:pt x="2640" y="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 = f (D , C , N , U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User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 = Document Descrip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= Client Set of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Observed Network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= Utility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cument Transfor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3048120"/>
            <a:ext cx="8380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2895480"/>
            <a:ext cx="76212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3048120"/>
            <a:ext cx="8380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297180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2971800"/>
            <a:ext cx="99036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276720"/>
            <a:ext cx="990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3276720"/>
            <a:ext cx="914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3276720"/>
            <a:ext cx="838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3276720"/>
            <a:ext cx="685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96080" y="358128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cument Descriptor 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in the form of “metada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es inclu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able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ent Rules  </a:t>
            </a: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rules govern the preferrences of the us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of available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work upon the set of values contained in D and generate new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ed on a per-user basis, or as a (user,site) p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State  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es the observed state of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ed during the first few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it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l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tility Function  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of utility generated by the objects on the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additive form, or more com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depends on Arrival Time and Brows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838080" y="2895480"/>
                <a:ext cx="4191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O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la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638680" y="2666880"/>
                <a:ext cx="19764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O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066680" y="3962520"/>
                <a:ext cx="27432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48320" y="396252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rows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or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 binary utility function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of Parallel Transmissions &lt; Serial Trans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exists an optimal ordering independent of rate, both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timing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ing tim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Wide Web today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it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runs Web transport over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is a byte-stream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uses a Request-Respons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attempts at incremental impr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comprehensive solu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ebT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nswer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timal Ordering Algorith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Given a set of objects with individual timing constraints - find the optimal ord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complet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ogramm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ally feasible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34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page (CNN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ww.path.berkeley.edu/~guptar/SAMPLE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metric for comparison of ut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son of transfers in terms of ut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05160" y="1885680"/>
            <a:ext cx="3530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compare_webtp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189320" cy="3733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486400" y="2819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3048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548640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TP vs Normal Web Transfer (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Work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F-based naming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ized packet form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utility functions - need experiments and measu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optimality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=f(D,C,N,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generation of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bility on the real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Questions :-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8288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bTP Home Page:</a:t>
            </a:r>
            <a:br>
              <a:rPr sz="2400"/>
            </a:b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http://www.path.berkeley.edu/~guptar/web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ges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Stage of WebT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leton of a protocol amenable to the 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ceiver-based scheme amenable to A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CP, and with other WebTP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ges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Receiver-Driv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d Server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ssing power at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rporating Us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Controlled Retrans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col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ng RTT at the 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Wind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 Rat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ansmission (receiver control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-of-Order Arri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ent-Server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ense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initiated by Receiver by requesting first data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F-based naming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terminated by Receiver by not requesting for any mor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-State” at Sen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20:06:47Z</dcterms:created>
  <dc:creator>Kiran</dc:creator>
  <dc:description/>
  <dc:language>en-US</dc:language>
  <cp:lastModifiedBy>Kiran</cp:lastModifiedBy>
  <cp:lastPrinted>1998-10-14T18:13:00Z</cp:lastPrinted>
  <dcterms:modified xsi:type="dcterms:W3CDTF">1998-10-16T02:03:08Z</dcterms:modified>
  <cp:revision>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path.berkeley.edu/~guptar/webtp</vt:lpwstr>
  </property>
  <property fmtid="{D5CDD505-2E9C-101B-9397-08002B2CF9AE}" pid="9" name="LinkColor">
    <vt:r8>16711782</vt:r8>
  </property>
  <property fmtid="{D5CDD505-2E9C-101B-9397-08002B2CF9AE}" pid="10" name="MailAddress">
    <vt:lpwstr>guptar@eecs.berkeley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K:\guptar\WEBTP\OtherPRESENT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