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F43-5E41-4DA0-9395-CB86FD8D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1D9-009F-4300-80AA-16A3E1D3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F0A-C396-4460-AA15-BB4FA459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066-5E63-41F5-A1BD-6094130E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7263-5289-40C4-89BE-36C332B3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A00E-B9B6-4D7C-8148-148E5C4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A9BD-F055-4D23-8972-81045311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4984-87DA-4BCA-9850-9D2725A1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D4C-AE50-4B2A-AD26-F5DB035B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0207-973D-4C12-83C9-BC4E4C2F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160E-CF96-4179-AF5E-955F0F1A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58F-599E-45E2-8FD2-689ADC1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961A-A100-41DB-A0EB-6E09DCA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E038-E983-48DC-8E0D-DCFCAEF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F56F-5A0F-4814-863D-45518DF5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962-23A0-49ED-ADF2-1D4E50E9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BAF1-5F23-4890-851A-609BB234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7AC-8650-4438-A738-5E889C92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152-08AC-4629-8004-4AD02839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5D1-E0B8-4D83-A0FB-40E221A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3D9-3285-4721-B6E6-70289223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95D-4875-4B80-83C9-181260B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B2E-DBFC-469B-8EDA-FF84BC6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BAF-6125-4839-B86A-61D8CFF2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9316-972F-4CB5-AF2A-C38673640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7D4-F8FB-48C6-B705-2C15CAE0A8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ebTP: A User-Centred Web Transport Protoco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05520" y="449532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ajarshi Gup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S 294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TT Calculation at Recei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2760" y="1676520"/>
            <a:ext cx="401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60164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2132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5146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590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200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1911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5720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518148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752120" y="3200400"/>
            <a:ext cx="121932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2590920"/>
            <a:ext cx="12193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666880"/>
            <a:ext cx="12189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019920" y="3276720"/>
            <a:ext cx="121896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4648320"/>
            <a:ext cx="121896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51460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320040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495288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3581280"/>
            <a:ext cx="304920" cy="76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73440" y="3392640"/>
            <a:ext cx="30492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02040" y="3011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6120" y="28954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 /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5760" y="327672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25146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5146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8720" y="586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8400" y="5867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79096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449568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9240" y="419112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ld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480060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2352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523520" y="3962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238880" y="5028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429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5160" y="32004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2960" y="411480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Tr + held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733920"/>
            <a:ext cx="30456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2819520"/>
            <a:ext cx="304920" cy="75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erimental Setu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012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28840" y="1886040"/>
            <a:ext cx="39625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TP Message Agents implemented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alculations and control at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f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d network ch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rate-control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81040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192420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2914560"/>
            <a:ext cx="2514600" cy="1752840"/>
          </a:xfrm>
          <a:prstGeom prst="cloudCallout">
            <a:avLst>
              <a:gd name="adj1" fmla="val -55870"/>
              <a:gd name="adj2" fmla="val 8197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184788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05756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810400"/>
            <a:ext cx="533160" cy="533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219480"/>
            <a:ext cx="533520" cy="533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048280"/>
            <a:ext cx="83844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533680"/>
            <a:ext cx="838080" cy="4572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703000">
            <a:off x="2917440" y="2664000"/>
            <a:ext cx="228600" cy="2253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362480"/>
            <a:ext cx="106668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81080" y="4572000"/>
            <a:ext cx="228600" cy="12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809880" y="28386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371600" y="4514760"/>
            <a:ext cx="83808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286000" y="4590720"/>
            <a:ext cx="533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207648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09880" y="2362320"/>
            <a:ext cx="763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09880" y="2990880"/>
            <a:ext cx="60984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5200" y="43624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8903000">
            <a:off x="2235240" y="4406400"/>
            <a:ext cx="1522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Flow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presentation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9482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r-Cent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correct characterization for D, C, 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 optimality of propsed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eiver-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ise exact adaptive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“magic” flow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 WebTP Servers and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 Jean Wal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 Steven McC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ke 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:-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ges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ct Empha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ahoma"/>
              </a:rPr>
              <a:t>Congestion Management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Congestion Management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2971800"/>
            <a:ext cx="121932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419720"/>
            <a:ext cx="12193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419720"/>
            <a:ext cx="121896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2971800"/>
            <a:ext cx="121932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971800"/>
            <a:ext cx="121932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971800"/>
            <a:ext cx="1218960" cy="609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191120"/>
            <a:ext cx="914400" cy="990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114800"/>
            <a:ext cx="152280" cy="11430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276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3276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7242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724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4724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124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124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5181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4572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4419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9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cument Trans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905120"/>
            <a:ext cx="83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362320"/>
            <a:ext cx="15238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438280"/>
            <a:ext cx="15238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2362320"/>
            <a:ext cx="15238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438280"/>
            <a:ext cx="152424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724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133720"/>
            <a:ext cx="4191120" cy="838080"/>
          </a:xfrm>
          <a:custGeom>
            <a:avLst/>
            <a:gdLst/>
            <a:ahLst/>
            <a:rect l="l" t="t" r="r" b="b"/>
            <a:pathLst>
              <a:path w="2640" h="632">
                <a:moveTo>
                  <a:pt x="0" y="632"/>
                </a:moveTo>
                <a:cubicBezTo>
                  <a:pt x="36" y="588"/>
                  <a:pt x="72" y="544"/>
                  <a:pt x="144" y="488"/>
                </a:cubicBezTo>
                <a:cubicBezTo>
                  <a:pt x="216" y="432"/>
                  <a:pt x="328" y="352"/>
                  <a:pt x="432" y="296"/>
                </a:cubicBezTo>
                <a:cubicBezTo>
                  <a:pt x="536" y="240"/>
                  <a:pt x="656" y="192"/>
                  <a:pt x="768" y="152"/>
                </a:cubicBezTo>
                <a:cubicBezTo>
                  <a:pt x="880" y="112"/>
                  <a:pt x="1008" y="80"/>
                  <a:pt x="1104" y="56"/>
                </a:cubicBezTo>
                <a:cubicBezTo>
                  <a:pt x="1200" y="32"/>
                  <a:pt x="1272" y="16"/>
                  <a:pt x="1344" y="8"/>
                </a:cubicBezTo>
                <a:cubicBezTo>
                  <a:pt x="1416" y="0"/>
                  <a:pt x="1464" y="0"/>
                  <a:pt x="1536" y="8"/>
                </a:cubicBezTo>
                <a:cubicBezTo>
                  <a:pt x="1608" y="16"/>
                  <a:pt x="1696" y="32"/>
                  <a:pt x="1776" y="56"/>
                </a:cubicBezTo>
                <a:cubicBezTo>
                  <a:pt x="1856" y="80"/>
                  <a:pt x="1944" y="120"/>
                  <a:pt x="2016" y="152"/>
                </a:cubicBezTo>
                <a:cubicBezTo>
                  <a:pt x="2088" y="184"/>
                  <a:pt x="2144" y="208"/>
                  <a:pt x="2208" y="248"/>
                </a:cubicBezTo>
                <a:cubicBezTo>
                  <a:pt x="2272" y="288"/>
                  <a:pt x="2344" y="344"/>
                  <a:pt x="2400" y="392"/>
                </a:cubicBezTo>
                <a:cubicBezTo>
                  <a:pt x="2456" y="440"/>
                  <a:pt x="2504" y="496"/>
                  <a:pt x="2544" y="536"/>
                </a:cubicBezTo>
                <a:cubicBezTo>
                  <a:pt x="2584" y="576"/>
                  <a:pt x="2624" y="616"/>
                  <a:pt x="2640" y="6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 = f (D , C , N , U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User Satisf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 = Document Descrip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= Client Set of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= Observed Network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= Utility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-Centric Reord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ial transfer &gt; Parallel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timal Orde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ndepend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f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lgorithm to pick set of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P-complet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Programming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al setup with sample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tative measure of 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321000"/>
                <a:ext cx="9144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ℑ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User-Centric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Application Level Fra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9d93"/>
                </a:solidFill>
                <a:latin typeface="Tahoma"/>
              </a:rPr>
              <a:t>Congestion Management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Receiver-Based 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eiver - Driven Sche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server state -- better sca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ing User Contr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rate contro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2400" y="1886040"/>
            <a:ext cx="4140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flow control at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values of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Tahoma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Tahoma"/>
              </a:rPr>
              <a:t>loss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Tahoma"/>
              </a:rPr>
              <a:t>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-friendli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6T05:15:40Z</dcterms:created>
  <dc:creator>Rajarshi Gupta</dc:creator>
  <dc:description/>
  <dc:language>en-US</dc:language>
  <cp:lastModifiedBy>Kiran</cp:lastModifiedBy>
  <dcterms:modified xsi:type="dcterms:W3CDTF">1998-05-19T20:57:00Z</dcterms:modified>
  <cp:revision>15</cp:revision>
  <dc:subject/>
  <dc:title>No Slide Title</dc:title>
</cp:coreProperties>
</file>