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3B37-557E-4482-BFBC-20D0657D0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FD3D-EB3D-40AA-9317-732C0CFAC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F9D8-9307-4D11-8843-3159F2826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1B4A-1C07-4DBA-9C15-3E1141BB2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A9BDD-3A55-4DD4-9AB4-3811CA428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67115-A87F-4E34-A0F6-B366AE902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24A00-4F9F-4099-9103-C8FBCEA98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2B1EC-CE24-4BCA-9AC4-9E5DA7380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30F13-56E0-4F71-A642-BCDDAF5A4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0CDC3-FD9F-4F7B-8A3F-A972007A3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D1BF6-A5E4-47F9-ACBC-E2083A6D1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86DA-7F72-4EEE-897B-C6248028C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54314-F52B-4798-963B-B7B95FE95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393A9-0AC2-4AC8-A364-82CC837AC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29692-766C-4D63-80DE-289241889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1E39A-9149-4564-A9BF-40BB019F4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3584D-C149-4A5E-A0CB-89163B738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9D18-2F81-4A5F-8B85-BF1CEC9BC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F1F1-8937-46D4-A7B8-A4CD0E166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CBFA-8C79-42B7-9941-599632CC9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B841-4D38-45F8-AB88-51AFB087D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5EB9-2127-4C6A-A76E-56CB6543D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C6B6-3A93-4602-8A5E-754FC62D2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5527-4932-416F-B11C-AC9DC5D6A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8A087-BBF2-402F-91A2-3E0261D949E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BF7A1-8DE5-491C-897E-51758C3E1D4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240" y="2361960"/>
            <a:ext cx="8915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 Black"/>
              </a:rPr>
              <a:t>WebTP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 Receiver-Driven, ALF-based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eb Transport Protoco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5486040" y="4724280"/>
            <a:ext cx="35053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Rajarshi Gupta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Mike Chen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f Steven McCanne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f Jean Walrand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"/>
          <p:cNvSpPr/>
          <p:nvPr/>
        </p:nvSpPr>
        <p:spPr>
          <a:xfrm>
            <a:off x="1295280" y="457200"/>
            <a:ext cx="6934320" cy="13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9d93"/>
                </a:solidFill>
                <a:latin typeface="Arial Black"/>
              </a:rPr>
              <a:t>MASH RETR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9d93"/>
                </a:solidFill>
                <a:latin typeface="Arial Black"/>
              </a:rPr>
              <a:t>Granlibakken Cent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9d93"/>
                </a:solidFill>
                <a:latin typeface="Arial Black"/>
              </a:rPr>
              <a:t>Tahoe City, July 13-15 199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end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"/>
          <p:cNvSpPr/>
          <p:nvPr/>
        </p:nvSpPr>
        <p:spPr>
          <a:xfrm>
            <a:off x="1447920" y="2133720"/>
            <a:ext cx="419076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2743200"/>
            <a:ext cx="419076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638680" y="2133720"/>
            <a:ext cx="0" cy="6094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105520" y="2362320"/>
            <a:ext cx="38088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648320" y="2362320"/>
            <a:ext cx="38088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191120" y="2362320"/>
            <a:ext cx="38088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733920" y="2362320"/>
            <a:ext cx="38088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276720" y="2362320"/>
            <a:ext cx="38088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819520" y="2362320"/>
            <a:ext cx="38088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867280" y="2133720"/>
            <a:ext cx="457200" cy="53316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43600" y="2209680"/>
            <a:ext cx="304920" cy="3812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5943240" y="2209680"/>
            <a:ext cx="304920" cy="3812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646800" y="1865160"/>
            <a:ext cx="148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der Object Que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716800" y="2590920"/>
            <a:ext cx="77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ces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219320" y="3962520"/>
            <a:ext cx="6095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219320" y="5638680"/>
            <a:ext cx="6095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1447920" y="3962520"/>
            <a:ext cx="761760" cy="16761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362320" y="3962520"/>
            <a:ext cx="609480" cy="16761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971800" y="3962520"/>
            <a:ext cx="609480" cy="16761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505320" y="3962520"/>
            <a:ext cx="609480" cy="16761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52880" y="3962520"/>
            <a:ext cx="609840" cy="16761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038480" y="3962520"/>
            <a:ext cx="609840" cy="16761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3124080" y="3962520"/>
            <a:ext cx="762120" cy="16761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867280" y="3962520"/>
            <a:ext cx="609840" cy="16761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206000" y="5599080"/>
            <a:ext cx="86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,n+3&gt;,r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517120" y="5638680"/>
            <a:ext cx="102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+4,n+5&gt;,r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592360" y="4572000"/>
            <a:ext cx="33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[n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125160" y="4419720"/>
            <a:ext cx="46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[n+1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5000" y="4648320"/>
            <a:ext cx="46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[n+2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182560" y="4648320"/>
            <a:ext cx="46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[n+4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096960" y="4648320"/>
            <a:ext cx="46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[n+5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268160" y="4648320"/>
            <a:ext cx="46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[n+3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438280" y="3886200"/>
            <a:ext cx="457200" cy="76320"/>
          </a:xfrm>
          <a:prstGeom prst="rec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048120" y="3886200"/>
            <a:ext cx="457200" cy="76320"/>
          </a:xfrm>
          <a:prstGeom prst="rec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581280" y="3886200"/>
            <a:ext cx="457200" cy="76320"/>
          </a:xfrm>
          <a:prstGeom prst="rec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114800" y="3886200"/>
            <a:ext cx="762120" cy="76320"/>
          </a:xfrm>
          <a:prstGeom prst="rec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29200" y="3886200"/>
            <a:ext cx="762120" cy="76320"/>
          </a:xfrm>
          <a:prstGeom prst="rec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499840" y="3641760"/>
            <a:ext cx="386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/r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049200" y="3657600"/>
            <a:ext cx="386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/r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582360" y="3657600"/>
            <a:ext cx="386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/r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268160" y="3657600"/>
            <a:ext cx="386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/r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182560" y="3657600"/>
            <a:ext cx="386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/r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317720" y="3809880"/>
            <a:ext cx="60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319160" y="5486400"/>
            <a:ext cx="72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e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Flow Control at Receiv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4920" y="1885680"/>
            <a:ext cx="44956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INDOW-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maximum amount of data in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-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ve Increase/ Multiplicative Decr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increase will be biased by RT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47960" y="1885680"/>
            <a:ext cx="4190760" cy="44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TE-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ve Increase/ Multiplicative Decr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control based on window siz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= cwnd / s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Control independent of cw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= f (oldrat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eceiver-Driven Slow-Star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2666880"/>
            <a:ext cx="64771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371600" y="4343400"/>
            <a:ext cx="64771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2590920" y="2666520"/>
            <a:ext cx="685800" cy="1676520"/>
          </a:xfrm>
          <a:prstGeom prst="line">
            <a:avLst/>
          </a:prstGeom>
          <a:ln w="12600">
            <a:solidFill>
              <a:srgbClr val="3366ff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133720" y="2666880"/>
            <a:ext cx="457200" cy="167652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1447920" y="2666520"/>
            <a:ext cx="685800" cy="1676520"/>
          </a:xfrm>
          <a:prstGeom prst="line">
            <a:avLst/>
          </a:prstGeom>
          <a:ln w="12600">
            <a:solidFill>
              <a:srgbClr val="3366ff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276720" y="2666880"/>
            <a:ext cx="457200" cy="167652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581280" y="2666880"/>
            <a:ext cx="457200" cy="167652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419720" y="2666880"/>
            <a:ext cx="457200" cy="167652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019920" y="2666880"/>
            <a:ext cx="457200" cy="167652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05520" y="2666880"/>
            <a:ext cx="457200" cy="167652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76920" y="2666880"/>
            <a:ext cx="457200" cy="167652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648320" y="2666880"/>
            <a:ext cx="457200" cy="167652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791320" y="2666880"/>
            <a:ext cx="457200" cy="167652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562720" y="2666880"/>
            <a:ext cx="457200" cy="167652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3733920" y="2666520"/>
            <a:ext cx="685800" cy="1676520"/>
          </a:xfrm>
          <a:prstGeom prst="line">
            <a:avLst/>
          </a:prstGeom>
          <a:ln w="12600">
            <a:solidFill>
              <a:srgbClr val="3366ff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4038480" y="2666520"/>
            <a:ext cx="685800" cy="1676520"/>
          </a:xfrm>
          <a:prstGeom prst="line">
            <a:avLst/>
          </a:prstGeom>
          <a:ln w="12600">
            <a:solidFill>
              <a:srgbClr val="3366ff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4876920" y="2666520"/>
            <a:ext cx="685800" cy="1676520"/>
          </a:xfrm>
          <a:prstGeom prst="line">
            <a:avLst/>
          </a:prstGeom>
          <a:ln w="12600">
            <a:solidFill>
              <a:srgbClr val="3366ff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066680" y="4419720"/>
            <a:ext cx="6098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6200" y="4419720"/>
            <a:ext cx="45720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,e,d,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257800" y="4419720"/>
            <a:ext cx="7621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n,m,l,k,j,i,h,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286000" y="4419720"/>
            <a:ext cx="6094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,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rot="21599400">
            <a:off x="3429000" y="441936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,c,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71600" y="33130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431160" y="3276720"/>
            <a:ext cx="24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031360" y="3352680"/>
            <a:ext cx="24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4160" y="3352680"/>
            <a:ext cx="24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802040" y="327672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657600" y="3048120"/>
            <a:ext cx="26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107320" y="2819520"/>
            <a:ext cx="231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rot="17458800">
            <a:off x="1371600" y="3504600"/>
            <a:ext cx="6094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x&gt;,</a:t>
            </a:r>
            <a:r>
              <a:rPr b="1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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rot="17458800">
            <a:off x="2514600" y="3428280"/>
            <a:ext cx="6094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a,b&gt;,</a:t>
            </a:r>
            <a:r>
              <a:rPr b="1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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rot="17458800">
            <a:off x="3657600" y="3504600"/>
            <a:ext cx="6094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c,d&gt;, </a:t>
            </a:r>
            <a:r>
              <a:rPr b="1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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17458800">
            <a:off x="3885840" y="3581280"/>
            <a:ext cx="6098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e,f&gt;, </a:t>
            </a:r>
            <a:r>
              <a:rPr b="1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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5562720" y="2666520"/>
            <a:ext cx="685800" cy="1676520"/>
          </a:xfrm>
          <a:prstGeom prst="line">
            <a:avLst/>
          </a:prstGeom>
          <a:ln w="12600">
            <a:solidFill>
              <a:srgbClr val="3366ff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334120" y="2666520"/>
            <a:ext cx="685800" cy="1676520"/>
          </a:xfrm>
          <a:prstGeom prst="line">
            <a:avLst/>
          </a:prstGeom>
          <a:ln w="12600">
            <a:solidFill>
              <a:srgbClr val="3366ff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5105520" y="2666520"/>
            <a:ext cx="685800" cy="1676520"/>
          </a:xfrm>
          <a:prstGeom prst="line">
            <a:avLst/>
          </a:prstGeom>
          <a:ln w="12600">
            <a:solidFill>
              <a:srgbClr val="3366ff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rot="17458800">
            <a:off x="5486040" y="3581280"/>
            <a:ext cx="6098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m,n&gt;, </a:t>
            </a:r>
            <a:r>
              <a:rPr b="1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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477120" y="2666880"/>
            <a:ext cx="457200" cy="167652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248520" y="2666880"/>
            <a:ext cx="457200" cy="167652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705720" y="2666880"/>
            <a:ext cx="457200" cy="167652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457200" cy="167652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934320" y="2666880"/>
            <a:ext cx="457200" cy="167652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912080" y="4176720"/>
            <a:ext cx="90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cei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927200" y="2514600"/>
            <a:ext cx="74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088400" y="33526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316640" y="327672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591920" y="5638680"/>
            <a:ext cx="64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pected Object Queue at Receiver keeps track of requested obj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etransmission (timeout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ccurs when no packet is received for a long period (w.r.t Current Rat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imeout = 1/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+ M.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 current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ahoma"/>
              </a:rPr>
              <a:t>new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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old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+ (1-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)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at - 1/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tolerance parame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tion: Cut window, Cut r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est again for first object in queu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8432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etransmission (out-of-order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9" name=""/>
          <p:cNvSpPr/>
          <p:nvPr/>
        </p:nvSpPr>
        <p:spPr>
          <a:xfrm>
            <a:off x="457200" y="2133720"/>
            <a:ext cx="7086600" cy="53316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57200" y="4952880"/>
            <a:ext cx="7086600" cy="53352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7200" y="3581280"/>
            <a:ext cx="7086600" cy="53352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086600" y="2286000"/>
            <a:ext cx="304920" cy="228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29400" y="2286000"/>
            <a:ext cx="304920" cy="228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72200" y="2286000"/>
            <a:ext cx="304920" cy="228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715000" y="2286000"/>
            <a:ext cx="304920" cy="228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257800" y="2286000"/>
            <a:ext cx="304920" cy="228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800600" y="2286000"/>
            <a:ext cx="304920" cy="228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343400" y="2286000"/>
            <a:ext cx="304920" cy="228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2286000"/>
            <a:ext cx="304920" cy="228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429000" y="2286000"/>
            <a:ext cx="304920" cy="228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971800" y="2286000"/>
            <a:ext cx="304920" cy="228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514600" y="2286000"/>
            <a:ext cx="304920" cy="228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057400" y="2286000"/>
            <a:ext cx="304920" cy="228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086600" y="5105520"/>
            <a:ext cx="304920" cy="228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629400" y="5105520"/>
            <a:ext cx="304920" cy="228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172200" y="5105520"/>
            <a:ext cx="304920" cy="228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715000" y="5105520"/>
            <a:ext cx="304920" cy="228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257800" y="5105520"/>
            <a:ext cx="304920" cy="228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800600" y="5105520"/>
            <a:ext cx="304920" cy="228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343400" y="5105520"/>
            <a:ext cx="304920" cy="228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086600" y="3733920"/>
            <a:ext cx="304920" cy="228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629400" y="3733920"/>
            <a:ext cx="304920" cy="228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172200" y="3733920"/>
            <a:ext cx="304920" cy="228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715000" y="3733920"/>
            <a:ext cx="304920" cy="228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257800" y="3733920"/>
            <a:ext cx="304920" cy="228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800600" y="3733920"/>
            <a:ext cx="304920" cy="228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343400" y="3733920"/>
            <a:ext cx="304920" cy="228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886200" y="3733920"/>
            <a:ext cx="304920" cy="228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429000" y="3733920"/>
            <a:ext cx="304920" cy="228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733920"/>
            <a:ext cx="304920" cy="228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514600" y="3733920"/>
            <a:ext cx="304920" cy="228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057400" y="3733920"/>
            <a:ext cx="304920" cy="228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086600" y="3657600"/>
            <a:ext cx="304920" cy="380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800600" y="3657600"/>
            <a:ext cx="304920" cy="380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257800" y="3657600"/>
            <a:ext cx="304920" cy="380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64400" y="1778040"/>
            <a:ext cx="276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pected Object Queue (initia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66560" y="4673520"/>
            <a:ext cx="409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pected Object Queue (after queue reorderin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69800" y="3225960"/>
            <a:ext cx="436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pected Object Queue (after out-of-order arriva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703280" y="3098880"/>
            <a:ext cx="11577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Arrival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722920" y="406224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722920" y="42148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488200" y="4191120"/>
            <a:ext cx="1180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ransmiss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6485040" y="406224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800600" y="5410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800600" y="55627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5562720" y="5410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257000" y="5599080"/>
            <a:ext cx="1982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ransmitted packets mo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Expected Pos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734960" y="503712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RTT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rate = 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982440" y="6248520"/>
            <a:ext cx="71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cted Object Queue emulates the queue at the Se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629400" y="3657600"/>
            <a:ext cx="304920" cy="380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343400" y="3657600"/>
            <a:ext cx="304920" cy="380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xperimental Setup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761760" y="1676520"/>
            <a:ext cx="4012920" cy="46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5028840" y="1886040"/>
            <a:ext cx="3962520" cy="47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h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network simula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TP Message Agents implemented in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alculations and control at receiv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-in TCP ag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"/>
          <p:cNvSpPr/>
          <p:nvPr/>
        </p:nvSpPr>
        <p:spPr>
          <a:xfrm>
            <a:off x="1447920" y="5810400"/>
            <a:ext cx="838080" cy="45720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b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429000" y="1924200"/>
            <a:ext cx="838080" cy="45720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b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676520" y="2914560"/>
            <a:ext cx="2514600" cy="1752840"/>
          </a:xfrm>
          <a:prstGeom prst="cloudCallout">
            <a:avLst>
              <a:gd name="adj1" fmla="val -55870"/>
              <a:gd name="adj2" fmla="val 8197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666880" y="1847880"/>
            <a:ext cx="533520" cy="53352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C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09480" y="4057560"/>
            <a:ext cx="533520" cy="53352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C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590920" y="5810400"/>
            <a:ext cx="533160" cy="5331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C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3219480"/>
            <a:ext cx="533520" cy="53352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C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09480" y="5048280"/>
            <a:ext cx="838440" cy="45720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b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962520" y="2533680"/>
            <a:ext cx="838080" cy="45720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b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rot="2703000">
            <a:off x="2917440" y="2664000"/>
            <a:ext cx="228600" cy="22539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143000" y="4362480"/>
            <a:ext cx="1066680" cy="133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1981080" y="4572000"/>
            <a:ext cx="228600" cy="1238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3809880" y="2838600"/>
            <a:ext cx="15264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1371600" y="4514760"/>
            <a:ext cx="838080" cy="6098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H="1" flipV="1">
            <a:off x="2286000" y="4590720"/>
            <a:ext cx="533520" cy="1219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200400" y="2076480"/>
            <a:ext cx="53352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H="1">
            <a:off x="3809880" y="2362320"/>
            <a:ext cx="76320" cy="609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 flipV="1">
            <a:off x="3809880" y="2990880"/>
            <a:ext cx="60984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355200" y="4362480"/>
            <a:ext cx="71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rot="18903000">
            <a:off x="2235240" y="4406400"/>
            <a:ext cx="152280" cy="22860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ingle WebTP Flow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62276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etai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 Mbps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opTail Queue (queue limit 1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Ob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-friend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27" name="1W" descr=""/>
          <p:cNvPicPr/>
          <p:nvPr/>
        </p:nvPicPr>
        <p:blipFill>
          <a:blip r:embed="rId1"/>
          <a:stretch/>
        </p:blipFill>
        <p:spPr>
          <a:xfrm>
            <a:off x="380880" y="2057400"/>
            <a:ext cx="4013280" cy="326088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/>
          <p:nvPr/>
        </p:nvSpPr>
        <p:spPr>
          <a:xfrm>
            <a:off x="833400" y="5334120"/>
            <a:ext cx="340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te Plot for One WebTP Fl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hree WebTP Flow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0" name=""/>
          <p:cNvSpPr/>
          <p:nvPr/>
        </p:nvSpPr>
        <p:spPr>
          <a:xfrm>
            <a:off x="990720" y="5257800"/>
            <a:ext cx="6094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257800" y="5257800"/>
            <a:ext cx="6094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057400" y="556272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*Efficiency*        *Fairness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4952880"/>
            <a:ext cx="6858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181480" y="4952880"/>
            <a:ext cx="6858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5" name="3W" descr=""/>
          <p:cNvPicPr/>
          <p:nvPr/>
        </p:nvPicPr>
        <p:blipFill>
          <a:blip r:embed="rId1"/>
          <a:stretch/>
        </p:blipFill>
        <p:spPr>
          <a:xfrm>
            <a:off x="533520" y="1828800"/>
            <a:ext cx="8235720" cy="328284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2134080" y="4952880"/>
            <a:ext cx="111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te Pl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170400" y="4952880"/>
            <a:ext cx="150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irness Pl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8737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One WebTP and One TCP Flow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9" name=""/>
          <p:cNvSpPr/>
          <p:nvPr/>
        </p:nvSpPr>
        <p:spPr>
          <a:xfrm>
            <a:off x="1219320" y="5562720"/>
            <a:ext cx="723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*Efficiency*     *Stability*   *Fairness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134080" y="4952880"/>
            <a:ext cx="111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te Pl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170400" y="4952880"/>
            <a:ext cx="150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irness Pl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2" name="1W1T" descr=""/>
          <p:cNvPicPr/>
          <p:nvPr/>
        </p:nvPicPr>
        <p:blipFill>
          <a:blip r:embed="rId1"/>
          <a:stretch/>
        </p:blipFill>
        <p:spPr>
          <a:xfrm>
            <a:off x="609480" y="1752480"/>
            <a:ext cx="79534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nclusion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tivation for WebT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gued desirability of Receiver-driven protoc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monstrated feasibility of such a sche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sented a working solution to the design problem outlin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fficient, Stable and Fair flows - work well when WebTP pkts are isola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ceptable interaction with TC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otiva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1788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orld Wide Web today is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va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vital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stly runs Web transport over TC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P is a byte-stream protoc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b uses a Request-Response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ral attempts at incremental improv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ed a comprehensive solution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WebTP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 the answer 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Future Work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38188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ed to tune various design paramet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ckward Compatibility issu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ress performance issues across asymmetric conne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zards relating to server secur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ve testing of WebTP flow control over Intern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33520" y="40381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Black"/>
              </a:rPr>
              <a:t>Questions :-)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8" name=""/>
          <p:cNvSpPr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04920" y="1828800"/>
            <a:ext cx="8839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WebTP Home Page:</a:t>
            </a:r>
            <a:br>
              <a:rPr sz="2400"/>
            </a:br>
            <a:r>
              <a:rPr b="0" lang="en-US" sz="2800" spc="-1" strike="noStrike">
                <a:solidFill>
                  <a:srgbClr val="3333ff"/>
                </a:solidFill>
                <a:latin typeface="Arial Black"/>
              </a:rPr>
              <a:t>http://www.path.berkeley.edu/~guptar/webt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esign Principl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r-Centric Optim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plication Level Fram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gestion Man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ceiver-Based Sche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First Stage of WebTP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keleton of a protocol amenable to the design princi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receiver-based scheme amenable to AL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action with TCP, and with other WebTP flow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esign Principl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r-Centric Optim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plication Level Fram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ongestion Man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Receiver-Based Sche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hy Receiver-Driv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1788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duced Server St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ing processing power at Cli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orporating User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plication Controlled Retransmiss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858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rotocol Component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1788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ent-Server Intera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lculating RTT at the Rece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nder A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ceiver Window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ceiver Rate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ansmission (receiver controlle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-of-Order Arriv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ent-Server Intera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sense of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connection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low initiated by Receiver by requesting first data ob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F-based naming mechanis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low terminated by Receiver by not requesting for any more ob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-State” at Sender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280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TT Calculation at Receiv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32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-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22760" y="1676520"/>
            <a:ext cx="40132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-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601640" y="57913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821320" y="57913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514600"/>
            <a:ext cx="75960" cy="763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971800" y="3124080"/>
            <a:ext cx="76320" cy="763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676520" y="4114800"/>
            <a:ext cx="75960" cy="763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943600" y="2590920"/>
            <a:ext cx="76320" cy="759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238880" y="3200400"/>
            <a:ext cx="76320" cy="763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943600" y="4191120"/>
            <a:ext cx="76320" cy="759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943600" y="4572000"/>
            <a:ext cx="76320" cy="763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238880" y="5181480"/>
            <a:ext cx="76320" cy="763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1752120" y="3200400"/>
            <a:ext cx="1219320" cy="9144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752480" y="2590920"/>
            <a:ext cx="1219320" cy="533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19920" y="2666880"/>
            <a:ext cx="1218960" cy="533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6019920" y="3276720"/>
            <a:ext cx="1218960" cy="9144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648320"/>
            <a:ext cx="1218960" cy="533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371600" y="2514600"/>
            <a:ext cx="304920" cy="7632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315200" y="3200400"/>
            <a:ext cx="304920" cy="7632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553080" y="4952880"/>
            <a:ext cx="304920" cy="7632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86000" y="3581280"/>
            <a:ext cx="304920" cy="7632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673440" y="3392640"/>
            <a:ext cx="304920" cy="7596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02040" y="3011400"/>
            <a:ext cx="76320" cy="763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966120" y="2895480"/>
            <a:ext cx="95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cket / 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5760" y="3276720"/>
            <a:ext cx="86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mesta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752480" y="2514600"/>
            <a:ext cx="0" cy="32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2514600"/>
            <a:ext cx="0" cy="32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2590920"/>
            <a:ext cx="0" cy="32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920" y="2590920"/>
            <a:ext cx="0" cy="32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868720" y="58672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088400" y="58672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5790960" y="41911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791320" y="4191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91320" y="46483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410080" y="4495680"/>
            <a:ext cx="304920" cy="763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259240" y="4191120"/>
            <a:ext cx="625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eldti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324480" y="4800600"/>
            <a:ext cx="304920" cy="763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1523520" y="2590920"/>
            <a:ext cx="228600" cy="759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 flipV="1">
            <a:off x="1523520" y="396216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23880" y="266688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238880" y="327672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7238880" y="502884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467480" y="34290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145160" y="3200400"/>
            <a:ext cx="4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T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392960" y="4114800"/>
            <a:ext cx="104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TTr + heldti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477120" y="3733920"/>
            <a:ext cx="304560" cy="7596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209680" y="2819520"/>
            <a:ext cx="304920" cy="7596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6324480"/>
            <a:ext cx="38433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RT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new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 α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RT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ol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+ (1 - α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RT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4-26T05:15:40Z</dcterms:created>
  <dc:creator>Rajarshi Gupta</dc:creator>
  <dc:description/>
  <dc:language>en-US</dc:language>
  <cp:lastModifiedBy>Kiran</cp:lastModifiedBy>
  <cp:lastPrinted>1998-07-10T19:37:54Z</cp:lastPrinted>
  <dcterms:modified xsi:type="dcterms:W3CDTF">1998-07-12T07:23:19Z</dcterms:modified>
  <cp:revision>49</cp:revision>
  <dc:subject/>
  <dc:title>No Slide Title</dc:title>
</cp:coreProperties>
</file>